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B16-53E5-456F-B0E1-0A1CC2C6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B68-6C83-4FDA-9A24-8C189DCF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54C-A6DB-4BCC-9A26-DE1BB3CF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550-643B-4666-A1FD-E6B8D33B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5D1-CBC1-49FC-830E-2D412D91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3BC-DE1A-42CE-B774-D2F8DE3D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E5B-11FF-4E60-92C1-D68F5CD8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7ED-3A59-42F0-8E63-60CDAE97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63A-123D-43F2-A855-69C8E25E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144-E3C0-4AD4-96EA-CE7D078A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3DF-050A-4BBD-913C-5C2A9E69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1E4-F251-468F-B77A-1BAE9D4A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24FF-C086-4FCB-82AF-CD0520110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29000" y="27432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7432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990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N00417_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26542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D08670_" descr=""/>
          <p:cNvPicPr/>
          <p:nvPr/>
        </p:nvPicPr>
        <p:blipFill>
          <a:blip r:embed="rId1"/>
          <a:stretch/>
        </p:blipFill>
        <p:spPr>
          <a:xfrm>
            <a:off x="4876920" y="4419720"/>
            <a:ext cx="1838160" cy="1417680"/>
          </a:xfrm>
          <a:prstGeom prst="rect">
            <a:avLst/>
          </a:prstGeom>
          <a:ln w="0">
            <a:noFill/>
          </a:ln>
        </p:spPr>
      </p:pic>
      <p:pic>
        <p:nvPicPr>
          <p:cNvPr id="46" name="j0305491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1793880" cy="8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7432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N03341_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114444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2743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S01277_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84788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7432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H00733_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2495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HH01590_" descr=""/>
          <p:cNvPicPr/>
          <p:nvPr/>
        </p:nvPicPr>
        <p:blipFill>
          <a:blip r:embed="rId1"/>
          <a:stretch/>
        </p:blipFill>
        <p:spPr>
          <a:xfrm>
            <a:off x="3352680" y="4572000"/>
            <a:ext cx="212436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137547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6132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0532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AN04325_" descr=""/>
          <p:cNvPicPr/>
          <p:nvPr/>
        </p:nvPicPr>
        <p:blipFill>
          <a:blip r:embed="rId1"/>
          <a:stretch/>
        </p:blipFill>
        <p:spPr>
          <a:xfrm>
            <a:off x="3505320" y="4572000"/>
            <a:ext cx="181908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74320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E04044_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130040" cy="17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5:02Z</dcterms:modified>
  <cp:revision>6</cp:revision>
  <dc:subject/>
  <dc:title>-ill Word Family</dc:title>
</cp:coreProperties>
</file>